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1C00-A0E5-4601-808F-EE61D6A0A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Great notes on Wikipe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070E-1047-4A9D-8F8C-89EA69799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3B73-3670-4EC2-87B6-705E5049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F4D4-C538-4A91-B994-D73F3AEF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F4A4-412D-44C6-9EB9-4412EA76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DD7-95B8-4C81-B186-552BF999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0AB1-1F6C-4739-AB31-8D822A3F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20FC-34F0-4DC9-8002-7F35E26B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D1EE-018A-486B-9CB2-09D4DE35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6F88-6E72-4B16-BF08-E5FA6927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AEFC-B274-4023-9F80-FA1060B2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91B3-0233-4342-BC77-BC793EB9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18B8-01A5-4CA0-BE37-121AB80D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AC37-0FB4-43C0-89AD-89C412A7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E842-EB16-44C1-AEC1-EEBF3713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9603-0650-4504-8349-10632892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8F44-22D8-4A5C-BB96-1A728648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4834-95F3-48DA-BF91-0CAAA76D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D275-439C-4EFB-989E-8BB3EBC6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3AED0-DCCB-4EC5-BD18-A4CB17B3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F35B1-E981-45E3-A02B-503CC592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A556F-CAF6-408D-B1CE-77DE393A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A151F-AA04-4485-9C31-8FEED152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C6D4E-998F-40A9-B210-A95A5FE2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4F23-82E2-488C-98EC-B14D9340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F4143-967B-468B-B12E-3886518C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EFD5D-059D-4444-AB60-264D39E7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BF0C3-55D2-4229-B122-D1D26855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9169D-0A25-479A-A7C5-7E46690A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4D35C-2834-48C6-9148-DD62B03D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11C66-E013-46DD-ACF8-16EB5BFE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6FDE1-1172-41BA-A70F-4684880C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852E8-3AD8-4C48-B367-BB3B421A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DD6F3-35BF-4C69-B186-73E89059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835CE-63D9-450A-8E81-69C027BC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6C75-4D36-413C-9D01-6B5E344E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8911A-F738-4B19-A0F3-F9475D26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BF7F7-1A6E-4D33-A800-E0718D44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E6F66-F8A5-414B-90B3-5861DC5B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FD9EF-A793-4FAE-8538-A5DAB045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CA643-B5D2-4502-931B-E2680F88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9B063-22AE-45BB-AA5D-65796FBD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0B6F7-DE90-4687-BF06-9C6575DB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3394A-2516-416D-A733-3609CD2D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782E4-C140-4EF9-823B-19A2306E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95173-847F-4A99-86DE-8C2D03D66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A6D3-BCA1-41AD-B6C7-7625070A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97670-F645-47ED-B5EC-413176B9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10C2B-66A4-43FC-9EB3-9DE958A4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7ACE6-FFEE-4257-BD98-E22E3B16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888F1-A5B9-483D-B9A7-626D75CB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94DB5-7A9F-47A1-8CDE-769EC039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0A29C-C81C-4292-BFEB-A7FE34FF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E7180-CBF0-4CE1-A4C1-CDCF85B7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67A2E-6B82-4B39-88F1-BC421532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850F5-BAF4-4AFA-BB94-CE7A6D48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2875F-F648-4473-8839-1513A116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5C28-B680-42DC-85BE-25AB5CFF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39A59-60CF-40B7-8AD3-1DF78C1C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E5562-CC95-4826-A613-CFBF9788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F67FC-4A6B-45C0-9CDF-1F5C5B6F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B4878-DBF8-473F-96E7-92531CDE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6208D-3F1D-4007-ACFE-A0D0BBF0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F8755-598E-4AB6-9C9A-032D4754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E6A01-20ED-4903-9A5E-258EEC6B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DE8CB-83AC-4D82-9545-17FF9FAA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922E7-DD73-4B31-895B-F5AE99AC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31F22-744A-4037-B82E-3CE99FAA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CD03-2CF2-432E-932F-604DBCF0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E63D1-44F3-41A8-9878-6C904A79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16DF6-830A-4AAC-B4F4-78C33D3B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ABB80-F926-48E1-AC43-7D834C8A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2C6D5-7473-49ED-98A7-FB171389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10BAF-66BD-43A2-950D-4D3346D8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CC697-4722-4062-85AB-067D6879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59B3D-972D-4F83-91CD-76A0B1FB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61EB8-D1AD-43D1-87AD-C3BB2A6E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712B5-A505-416A-96F0-30ECC12D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29A2D-B930-4C7C-A3E8-857FF060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A40-24E3-4A89-9DD0-E95AAC52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63D2C-F746-4DE5-A1C4-B85025FC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D5B6D-B09B-410B-8698-0ED711F0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4F90E-E69B-4333-8F5B-176563E3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FCDC1-89C6-4B4E-9398-D6C9096A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048B1-1AC8-4C73-B3B7-8EFA34DA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A5884-A0C3-47A3-B22F-E7DD356E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E0671-53A0-4B5F-8B8F-85E6F37F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21A9A-9EE8-47C4-A860-1EB32A48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B4EC5-3FEB-4304-8065-7E8F56DD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7EF24-E0AE-4887-AC05-7799F67D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36E9-83AA-4674-A573-B80E2015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795D4-4589-420E-AB4D-94356426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D0570-9474-4AC3-8821-EDC35703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C5417-2587-4D26-837A-CC77D77D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01987-8652-44B3-B84B-280C3A59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13714-CA58-4290-9658-2D2E3AE8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E339F-0453-4713-82A5-46CD092A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E688D-3B97-490E-B015-5AD0EE41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CE43-CD15-4FA2-8826-183FDA996AB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7ADD-0B96-4278-9C3C-F0F2FC76981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C34E-5804-4636-AECD-1A558B6C415A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92A2-C7BD-4958-B9A5-79ABCA88F06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7468-0C03-4D4A-8E5D-BA24094A634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E14F-31F6-43E6-B4DB-F8460357646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916D-66A9-4720-8155-E6BE6AF2AECE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ABCF-68F3-4F0E-86AE-8A86B0ABC8B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Bookman Old Style"/>
              </a:rPr>
              <a:t>Cyber Terrorism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464653"/>
                </a:solidFill>
                <a:latin typeface="Bookman Old Style"/>
              </a:rPr>
              <a:t>Rain Ott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464653"/>
                </a:solidFill>
                <a:latin typeface="Bookman Old Style"/>
              </a:rPr>
              <a:t>Train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Manuals, videos etc. available on-li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464653"/>
                </a:solidFill>
                <a:latin typeface="Bookman Old Style"/>
              </a:rPr>
              <a:t>Psychological opera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Attacks that cause little or no damage in physical sense, but are widely felt among the population, thus causing fear and uncertain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Capitalising on the attention of the mass med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464653"/>
                </a:solidFill>
                <a:latin typeface="Bookman Old Style"/>
              </a:rPr>
              <a:t>Cyber attacks againd infrastructur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No publicly known large impact cyber terrorist attacks to dat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... but the potential is the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US experiment to remotely disable a power generator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SCADA systems may be linked to the Internet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464653"/>
                </a:solidFill>
                <a:latin typeface="Bookman Old Style"/>
              </a:rPr>
              <a:t>Group exerci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464653"/>
                </a:solidFill>
                <a:latin typeface="Bookman Old Style"/>
              </a:rPr>
              <a:t>Ques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464653"/>
                </a:solidFill>
                <a:latin typeface="Bookman Old Style"/>
              </a:rPr>
              <a:t>Agend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What is Cyber Terroris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Potential terrorist uses of Intern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464653"/>
                </a:solidFill>
                <a:latin typeface="Bookman Old Style"/>
              </a:rPr>
              <a:t>Purpo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To give the students a better overview of (potential) terrorist uses of cyber spa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464653"/>
                </a:solidFill>
                <a:latin typeface="Bookman Old Style"/>
              </a:rPr>
              <a:t>What is Cyber Terrorism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Practical exercise for group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Define cyber terroris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464653"/>
                </a:solidFill>
                <a:latin typeface="Bookman Old Style"/>
              </a:rPr>
              <a:t>Terrorism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erroris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is the systematic use of </a:t>
            </a: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terror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specially as a means of coerc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No universal defini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Extent of the threat – death, destruction, fear ..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Can states be considered terrorist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Goal – political, religious, economic, ecologic ..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Targeting civilian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Disguise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464653"/>
                </a:solidFill>
                <a:latin typeface="Bookman Old Style"/>
              </a:rPr>
              <a:t>Terrorists on the Internet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Practical exercise for group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What are the potential terrorist uses for Internet?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464653"/>
                </a:solidFill>
                <a:latin typeface="Bookman Old Style"/>
              </a:rPr>
              <a:t>Propagand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Spreading your message on websites, forums etc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Using spam and defacement attack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Capitalizing on the attention of the mass med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464653"/>
                </a:solidFill>
                <a:latin typeface="Bookman Old Style"/>
              </a:rPr>
              <a:t>Command and Contro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Covert communication channel using publicly available servic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Chat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E-mail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Forum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Websit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..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464653"/>
                </a:solidFill>
                <a:latin typeface="Bookman Old Style"/>
              </a:rPr>
              <a:t>Recruiting and fundrais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Ove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Web portals, forums..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Gill Sans MT"/>
              </a:rPr>
              <a:t>Cove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Cooperation with the criminal underworl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464653"/>
                </a:solidFill>
                <a:latin typeface="Gill Sans MT"/>
              </a:rPr>
              <a:t>Blackmailing, extortion, theft etc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9:44:35Z</dcterms:created>
  <dc:creator>rain</dc:creator>
  <dc:description/>
  <dc:language>en-US</dc:language>
  <cp:lastModifiedBy>rain</cp:lastModifiedBy>
  <dcterms:modified xsi:type="dcterms:W3CDTF">2008-10-17T13:12:21Z</dcterms:modified>
  <cp:revision>8</cp:revision>
  <dc:subject/>
  <dc:title>Cyber Terrorism</dc:title>
</cp:coreProperties>
</file>